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3.jpeg" ContentType="image/jpeg"/>
  <Override PartName="/ppt/media/image21.jpeg" ContentType="image/jpeg"/>
  <Override PartName="/ppt/media/image20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24.jpeg" ContentType="image/jpeg"/>
  <Override PartName="/ppt/media/image15.png" ContentType="image/png"/>
  <Override PartName="/ppt/media/image3.png" ContentType="image/png"/>
  <Override PartName="/ppt/media/image10.jpeg" ContentType="image/jpeg"/>
  <Override PartName="/ppt/media/image43.jpeg" ContentType="image/jpeg"/>
  <Override PartName="/ppt/media/image5.png" ContentType="image/png"/>
  <Override PartName="/ppt/media/image29.jpeg" ContentType="image/jpeg"/>
  <Override PartName="/ppt/media/image19.jpeg" ContentType="image/jpeg"/>
  <Override PartName="/ppt/media/image11.png" ContentType="image/png"/>
  <Override PartName="/ppt/media/image12.jpeg" ContentType="image/jpeg"/>
  <Override PartName="/ppt/media/image37.jpeg" ContentType="image/jpeg"/>
  <Override PartName="/ppt/media/image13.jpeg" ContentType="image/jpeg"/>
  <Override PartName="/ppt/media/image30.jpeg" ContentType="image/jpeg"/>
  <Override PartName="/ppt/media/image33.jpeg" ContentType="image/jpeg"/>
  <Override PartName="/ppt/media/image27.jpeg" ContentType="image/jpeg"/>
  <Override PartName="/ppt/media/image36.jpeg" ContentType="image/jpeg"/>
  <Override PartName="/ppt/media/image38.jpeg" ContentType="image/jpeg"/>
  <Override PartName="/ppt/media/image31.jpeg" ContentType="image/jpeg"/>
  <Override PartName="/ppt/media/image40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41.png" ContentType="image/pn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9.png" ContentType="image/png"/>
  <Override PartName="/ppt/media/image22.jpeg" ContentType="image/jpeg"/>
  <Override PartName="/ppt/media/image39.jpeg" ContentType="image/jpeg"/>
  <Override PartName="/ppt/media/image8.png" ContentType="image/png"/>
  <Override PartName="/ppt/media/image1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AC9C-9E5D-4E3F-9703-CEC79B99F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3F9E-923D-47A3-838E-D473B0442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107B-350A-4F4E-8B9A-62F623A93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C7BA-9EE5-49BD-B093-1A6AED7E1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DFE0F-7C6F-4489-AB84-9671AEB04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47D21-90CF-4E7F-A8DA-3D7714177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3FCCC-55EF-483D-B3B3-855057DB0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91CBC-356D-4F6E-A4E1-73DF01C6A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E39E3-2E86-4698-B376-CCD67924E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E133D-4063-4A55-951C-A383A185D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D262C-74E3-4155-85BF-853E45A16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0F7F-8B8F-47A4-A034-F2D4EDEC7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4D616-C671-4CF7-B2B4-E69DEEC74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BCECF-62BA-4B1F-96F8-8FE0CC7CC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553EB-0E65-49C6-8D5F-9BE0772B4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A0046-8958-4CD4-8743-E47BB2CD0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D5F4B-4D69-4D94-A9A8-1E2ADB636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3E1AB-6C1F-4F9B-B1A3-86F9E202C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E963B-03E2-46EA-97F5-5526EC7CA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C71A0-242C-4E45-A643-CD8E3D37B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5F315-183B-444F-AAE2-ADD27001D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05071-3978-4C7A-9B40-E328C2E42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C079-C4D5-417B-9384-A638A8FDC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4712C-EE5C-4E91-A9EB-1D5811101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51A00-C857-4DDD-86D5-F5F96BDF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35D62-F868-46A5-A008-C1667C4C6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1E55D-6AAD-4F93-AA99-33A61C081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6C6DF-1BE3-470C-8E06-754A09C85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11BC4-6F13-4C62-A285-EDB568BAC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AAAB2-E032-4F22-A00F-B5464CADA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C35B1-9579-42D8-BAF9-1B2FB53E7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23FF1-ED97-4763-BD03-09237C657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71836-4A79-4510-910D-AD35184B0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F452-9546-4F1C-BC93-82507B1C8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127A7-4CD0-4D47-A899-6FEDC6491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6010D-26CD-49C4-A937-DDCAA5729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A9C4D-6F3E-4630-A678-AE7CF4E35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48CEE-3083-40D9-A274-4D7BF99EA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055A4-C72D-4E3D-ADB7-8F1823D01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34E75-62CD-4788-B616-7E4ECF74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8DA2A-5921-4628-AAA4-59103D662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E2AF5-F9F1-4981-B08C-D7D13EE7A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6D476-3D95-41D9-BCC0-C5F362645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378F-D3AB-4523-B6AA-EA883AEDE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EF9C-1563-480C-AACD-018A8C669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0C62-A298-4C7F-A42C-FFAAF634C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E310-4CD1-41FC-8EE9-69C45028A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3571-C37F-4075-A7C0-EF773EF1B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5E0EB-38A8-4734-B036-023012848A25}" type="slidenum">
              <a:rPr b="0" lang="es-E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03B0B-C3B3-41A1-A83C-0595BD0CA214}" type="slidenum">
              <a:rPr b="0" lang="es-E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5F1E2-BDB9-4D8C-8049-58FD04F93AF3}" type="slidenum">
              <a:rPr b="0" lang="es-E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80808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DF5A7-17A2-401E-B1EF-E530E2AF0A18}" type="slidenum">
              <a:rPr b="0" lang="es-E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C:\Users\Public\Documents\ARNOLD\FOTOS Similoa junio\100_346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3 CuadroTexto"/>
          <p:cNvSpPr/>
          <p:nvPr/>
        </p:nvSpPr>
        <p:spPr>
          <a:xfrm>
            <a:off x="863640" y="2262240"/>
            <a:ext cx="7416720" cy="49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Arial Narrow"/>
                <a:ea typeface="Calibri"/>
              </a:rPr>
              <a:t>PROYECTO  “FORTALECIMIENTO DE LA CAPACIDAD PRODUCTIVA DE LA COMUNIDAD  CAMPESINA DE LA VEREDA SIMILOA DEL MUNICIPIO DE CHIRIGUANÁ ÁREA DE INFLUENCIA DEL COMPLEJO CENAGOSO DE LA ZAPATOSA A PARTIR DE UN PROYECTO PISCÍCOLA SOSTENIBLE”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000" spc="-1" strike="noStrike">
                <a:solidFill>
                  <a:srgbClr val="000000"/>
                </a:solidFill>
                <a:latin typeface="Arial Narrow"/>
                <a:ea typeface="Calibri"/>
              </a:rPr>
              <a:t>AGROPISCÍCOLA  CHIRIGUANÁ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7" name="Imagen 6" descr=""/>
          <p:cNvPicPr/>
          <p:nvPr/>
        </p:nvPicPr>
        <p:blipFill>
          <a:blip r:embed="rId2"/>
          <a:stretch/>
        </p:blipFill>
        <p:spPr>
          <a:xfrm>
            <a:off x="6875640" y="549360"/>
            <a:ext cx="960120" cy="7794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" descr=""/>
          <p:cNvPicPr/>
          <p:nvPr/>
        </p:nvPicPr>
        <p:blipFill>
          <a:blip r:embed="rId3"/>
          <a:stretch/>
        </p:blipFill>
        <p:spPr>
          <a:xfrm>
            <a:off x="3708360" y="549360"/>
            <a:ext cx="1800360" cy="8287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" descr="C:\Users\Public\Documents\ARNOLD\00000-2012-imgtbp.png"/>
          <p:cNvPicPr/>
          <p:nvPr/>
        </p:nvPicPr>
        <p:blipFill>
          <a:blip r:embed="rId4"/>
          <a:stretch/>
        </p:blipFill>
        <p:spPr>
          <a:xfrm>
            <a:off x="1187280" y="361800"/>
            <a:ext cx="115272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C:\Users\Public\Documents\ARNOLD\FOTOS Similoa Agosto\100_4485.JPG"/>
          <p:cNvPicPr/>
          <p:nvPr/>
        </p:nvPicPr>
        <p:blipFill>
          <a:blip r:embed="rId1"/>
          <a:stretch/>
        </p:blipFill>
        <p:spPr>
          <a:xfrm>
            <a:off x="4680" y="3357720"/>
            <a:ext cx="4675320" cy="35002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" descr="C:\Users\Public\Documents\ARNOLD\FOTOS Similoa Mayo\100_3297.JPG"/>
          <p:cNvPicPr/>
          <p:nvPr/>
        </p:nvPicPr>
        <p:blipFill>
          <a:blip r:embed="rId2"/>
          <a:stretch/>
        </p:blipFill>
        <p:spPr>
          <a:xfrm>
            <a:off x="0" y="0"/>
            <a:ext cx="4680000" cy="33847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4" descr="C:\Users\Public\Documents\ARNOLD\FOTOS Similoa ABRIL\100_2901.JPG"/>
          <p:cNvPicPr/>
          <p:nvPr/>
        </p:nvPicPr>
        <p:blipFill>
          <a:blip r:embed="rId3"/>
          <a:stretch/>
        </p:blipFill>
        <p:spPr>
          <a:xfrm>
            <a:off x="4680000" y="0"/>
            <a:ext cx="4464000" cy="33577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" descr="C:\Users\Public\Documents\ARNOLD\FOTOS Similoa ABRIL\100_2918.JPG"/>
          <p:cNvPicPr/>
          <p:nvPr/>
        </p:nvPicPr>
        <p:blipFill>
          <a:blip r:embed="rId4"/>
          <a:stretch/>
        </p:blipFill>
        <p:spPr>
          <a:xfrm>
            <a:off x="4680000" y="3357720"/>
            <a:ext cx="4464000" cy="3500280"/>
          </a:xfrm>
          <a:prstGeom prst="rect">
            <a:avLst/>
          </a:prstGeom>
          <a:ln w="0">
            <a:noFill/>
          </a:ln>
        </p:spPr>
      </p:pic>
      <p:sp>
        <p:nvSpPr>
          <p:cNvPr id="230" name="3 CuadroTexto"/>
          <p:cNvSpPr/>
          <p:nvPr/>
        </p:nvSpPr>
        <p:spPr>
          <a:xfrm>
            <a:off x="1116000" y="2681280"/>
            <a:ext cx="698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000" spc="-1" strike="noStrike">
                <a:solidFill>
                  <a:srgbClr val="ff0000"/>
                </a:solidFill>
                <a:latin typeface="Constantia"/>
              </a:rPr>
              <a:t>SIEMBRA DE PECES EN ESTANQUE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3" descr="C:\Users\Public\Documents\ARNOLD\FOTOS Similoa Agosto\100_4560.JPG"/>
          <p:cNvPicPr/>
          <p:nvPr/>
        </p:nvPicPr>
        <p:blipFill>
          <a:blip r:embed="rId1"/>
          <a:stretch/>
        </p:blipFill>
        <p:spPr>
          <a:xfrm>
            <a:off x="4500720" y="3240"/>
            <a:ext cx="4643280" cy="34970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4" descr="C:\Users\Public\Documents\ARNOLD\FOTOS Similoa Agosto\100_4557.JPG"/>
          <p:cNvPicPr/>
          <p:nvPr/>
        </p:nvPicPr>
        <p:blipFill>
          <a:blip r:embed="rId2"/>
          <a:stretch/>
        </p:blipFill>
        <p:spPr>
          <a:xfrm>
            <a:off x="0" y="3240"/>
            <a:ext cx="4500720" cy="33544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" descr="C:\Users\Public\Documents\ARNOLD\FOTOS Similoa Agosto\100_4621.JPG"/>
          <p:cNvPicPr/>
          <p:nvPr/>
        </p:nvPicPr>
        <p:blipFill>
          <a:blip r:embed="rId3"/>
          <a:stretch/>
        </p:blipFill>
        <p:spPr>
          <a:xfrm>
            <a:off x="0" y="3357720"/>
            <a:ext cx="4500720" cy="35002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6" descr="C:\Users\Public\Documents\ARNOLD\FOTOS Similoa Agosto\100_4640.JPG"/>
          <p:cNvPicPr/>
          <p:nvPr/>
        </p:nvPicPr>
        <p:blipFill>
          <a:blip r:embed="rId4"/>
          <a:stretch/>
        </p:blipFill>
        <p:spPr>
          <a:xfrm>
            <a:off x="4500720" y="3500280"/>
            <a:ext cx="4643280" cy="3357720"/>
          </a:xfrm>
          <a:prstGeom prst="rect">
            <a:avLst/>
          </a:prstGeom>
          <a:ln w="0">
            <a:noFill/>
          </a:ln>
        </p:spPr>
      </p:pic>
      <p:sp>
        <p:nvSpPr>
          <p:cNvPr id="235" name="3 CuadroTexto"/>
          <p:cNvSpPr/>
          <p:nvPr/>
        </p:nvSpPr>
        <p:spPr>
          <a:xfrm>
            <a:off x="1835280" y="2637000"/>
            <a:ext cx="56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4000" spc="-1" strike="noStrike">
                <a:solidFill>
                  <a:srgbClr val="ff0000"/>
                </a:solidFill>
                <a:latin typeface="Constantia"/>
              </a:rPr>
              <a:t>BIOMETRÍAS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C:\Users\Public\Documents\ARNOLD\FOTOS Similoa junio\100_3947.JPG"/>
          <p:cNvPicPr/>
          <p:nvPr/>
        </p:nvPicPr>
        <p:blipFill>
          <a:blip r:embed="rId1"/>
          <a:stretch/>
        </p:blipFill>
        <p:spPr>
          <a:xfrm>
            <a:off x="46080" y="0"/>
            <a:ext cx="4597200" cy="33480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" descr="C:\Users\Public\Documents\ARNOLD\FOTOS Similoa junio\100_3959.JPG"/>
          <p:cNvPicPr/>
          <p:nvPr/>
        </p:nvPicPr>
        <p:blipFill>
          <a:blip r:embed="rId2"/>
          <a:stretch/>
        </p:blipFill>
        <p:spPr>
          <a:xfrm>
            <a:off x="4643280" y="19080"/>
            <a:ext cx="4500720" cy="33386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4" descr="C:\Users\Public\Documents\ARNOLD\FOTOS Similoa junio\100_3953.JPG"/>
          <p:cNvPicPr/>
          <p:nvPr/>
        </p:nvPicPr>
        <p:blipFill>
          <a:blip r:embed="rId3"/>
          <a:stretch/>
        </p:blipFill>
        <p:spPr>
          <a:xfrm>
            <a:off x="0" y="3357720"/>
            <a:ext cx="4643280" cy="34970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5" descr="C:\Users\Public\Documents\ARNOLD\FOTOS Similoa junio\100_3956.JPG"/>
          <p:cNvPicPr/>
          <p:nvPr/>
        </p:nvPicPr>
        <p:blipFill>
          <a:blip r:embed="rId4"/>
          <a:stretch/>
        </p:blipFill>
        <p:spPr>
          <a:xfrm>
            <a:off x="4672080" y="3357720"/>
            <a:ext cx="4471920" cy="3497040"/>
          </a:xfrm>
          <a:prstGeom prst="rect">
            <a:avLst/>
          </a:prstGeom>
          <a:ln w="0">
            <a:noFill/>
          </a:ln>
        </p:spPr>
      </p:pic>
      <p:sp>
        <p:nvSpPr>
          <p:cNvPr id="240" name="3 CuadroTexto"/>
          <p:cNvSpPr/>
          <p:nvPr/>
        </p:nvSpPr>
        <p:spPr>
          <a:xfrm>
            <a:off x="2195640" y="2781360"/>
            <a:ext cx="52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4 CuadroTexto"/>
          <p:cNvSpPr/>
          <p:nvPr/>
        </p:nvSpPr>
        <p:spPr>
          <a:xfrm>
            <a:off x="2411280" y="2637000"/>
            <a:ext cx="428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4000" spc="-1" strike="noStrike">
                <a:solidFill>
                  <a:srgbClr val="ff0000"/>
                </a:solidFill>
                <a:latin typeface="Constantia"/>
              </a:rPr>
              <a:t>SEXAJES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3" descr="C:\Users\USUARIO\Documents\DSC0324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3" name="1 CuadroTexto"/>
          <p:cNvSpPr/>
          <p:nvPr/>
        </p:nvSpPr>
        <p:spPr>
          <a:xfrm>
            <a:off x="684360" y="5445000"/>
            <a:ext cx="777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4000" spc="-1" strike="noStrike">
                <a:solidFill>
                  <a:srgbClr val="ff0000"/>
                </a:solidFill>
                <a:latin typeface="Constantia"/>
              </a:rPr>
              <a:t>PLANTA DE SACRIFICIO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4" descr="C:\Users\Public\Documents\ARNOLD\FOTOS Similoa Mayo\100_329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5" name="1 Título" descr=""/>
          <p:cNvPicPr/>
          <p:nvPr/>
        </p:nvPicPr>
        <p:blipFill>
          <a:blip r:embed="rId2"/>
          <a:stretch/>
        </p:blipFill>
        <p:spPr>
          <a:xfrm>
            <a:off x="615960" y="401760"/>
            <a:ext cx="7862760" cy="150012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539640" y="1341360"/>
            <a:ext cx="7772400" cy="5400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ffffff"/>
                </a:solidFill>
                <a:latin typeface="Calibri"/>
              </a:rPr>
              <a:t>Actualmente la Asociación  cuenta con: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5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es-CO" sz="2200" spc="-1" strike="noStrike">
                <a:solidFill>
                  <a:srgbClr val="ffffff"/>
                </a:solidFill>
                <a:latin typeface="Calibri"/>
              </a:rPr>
              <a:t>10 estanques, distribuidos en dos hectáreas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5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2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i="1" lang="es-CO" sz="2200" spc="-1" strike="noStrike">
                <a:solidFill>
                  <a:srgbClr val="ffffff"/>
                </a:solidFill>
                <a:latin typeface="Calibri"/>
              </a:rPr>
              <a:t>2 estanques de 600 </a:t>
            </a:r>
            <a:r>
              <a:rPr b="0" i="1" lang="es-CO" sz="2000" spc="-1" strike="noStrike">
                <a:solidFill>
                  <a:srgbClr val="ffffff"/>
                </a:solidFill>
                <a:latin typeface="Calibri"/>
              </a:rPr>
              <a:t>m2 y 8 estanques de 1000 m2</a:t>
            </a:r>
            <a:r>
              <a:rPr b="0" i="1" lang="es-CO" sz="2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i="1" lang="es-ES" sz="22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5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2200" spc="-1" strike="noStrike">
                <a:solidFill>
                  <a:srgbClr val="ffffff"/>
                </a:solidFill>
                <a:latin typeface="Calibri"/>
              </a:rPr>
              <a:t>Un pozo de 90 m de profundidad, con  una bomba sumergible  de 5 caballos de fuerza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5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2200" spc="-1" strike="noStrike">
                <a:solidFill>
                  <a:srgbClr val="ffffff"/>
                </a:solidFill>
                <a:latin typeface="Calibri"/>
              </a:rPr>
              <a:t>Planta de Sacrificio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5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2200" spc="-1" strike="noStrike">
                <a:solidFill>
                  <a:srgbClr val="ffffff"/>
                </a:solidFill>
                <a:latin typeface="Calibri"/>
              </a:rPr>
              <a:t>4 siembras de Tilapia Roja, la primera de ellas próxima a cosecharse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5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2200" spc="-1" strike="noStrike">
                <a:solidFill>
                  <a:srgbClr val="ffffff"/>
                </a:solidFill>
                <a:latin typeface="Calibri"/>
              </a:rPr>
              <a:t>Insumos, equipos para el desarrollo del cultivo de Tilapia roja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1 Título" descr=""/>
          <p:cNvPicPr/>
          <p:nvPr/>
        </p:nvPicPr>
        <p:blipFill>
          <a:blip r:embed="rId1"/>
          <a:stretch/>
        </p:blipFill>
        <p:spPr>
          <a:xfrm>
            <a:off x="682560" y="92160"/>
            <a:ext cx="7778880" cy="11635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687240" y="1628640"/>
            <a:ext cx="7772400" cy="4392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2800" spc="-1" strike="noStrike">
                <a:solidFill>
                  <a:srgbClr val="ffffff"/>
                </a:solidFill>
                <a:latin typeface="Calibri"/>
              </a:rPr>
              <a:t>ESTA ASOCIACIÓN LA CUAL SE ENCUENTRA INTEGRADA POR 22 PERSONAS QUE DÍA A DÍA LUCHAN PARA MEJORAR SU CALIDAD DE VIDA,  ENTREGANDO EL 100 % DE SI MISMOS EN CADA ACTIVIDAD QUE REALIZAN TRABAJANDO PARA QUE ESTE PROYECTO SALGA ADELANTE, SON PERSONAS QUE VALORAN Y APROVECHAN LOS CONOCIMIENTOS Y RECURSOS ADQUIRIDOS FORTALECIÉNDOSE PARA SEGUIR ADELANTE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1 Título" descr=""/>
          <p:cNvPicPr/>
          <p:nvPr/>
        </p:nvPicPr>
        <p:blipFill>
          <a:blip r:embed="rId1"/>
          <a:stretch/>
        </p:blipFill>
        <p:spPr>
          <a:xfrm>
            <a:off x="682560" y="401760"/>
            <a:ext cx="7778880" cy="72540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684360" y="184428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2800" spc="-1" strike="noStrike">
                <a:solidFill>
                  <a:srgbClr val="ffffff"/>
                </a:solidFill>
                <a:latin typeface="Calibri"/>
              </a:rPr>
              <a:t>AGRADECEMOS EL APOYO OFRECIDO POR LA GOBERNACIÓN DEL DEPARTAMENTO DEL CESAR, ECOPETROL Y LA CORPORACIÓN AGENCIA DE DESARROLLO ECONÓMICO LOCAL ¨ADEL ZAPATOSA¨ POR BRINDARNOS LA OPORTUNIDAD DE MEJORAR NUESTRA CALIDAD DE VIDA CON ESTE PROYECTO FORTALECIÉNDONOS COMO PERSONAS Y ENSEÑÁNDONOS QUE JUNTOS PODEMOS SER MEJOR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C:\Users\Public\Documents\ARNOLD\FOTOS Similoa Mayo\100_345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2" name="3 CuadroTexto"/>
          <p:cNvSpPr/>
          <p:nvPr/>
        </p:nvSpPr>
        <p:spPr>
          <a:xfrm>
            <a:off x="1547640" y="2421000"/>
            <a:ext cx="62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7200" spc="-1" strike="noStrike">
                <a:solidFill>
                  <a:srgbClr val="000000"/>
                </a:solidFill>
                <a:latin typeface="Constantia"/>
              </a:rPr>
              <a:t>¡GRACIAS!</a:t>
            </a:r>
            <a:endParaRPr b="0" lang="en-US" sz="7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677520" y="2205000"/>
            <a:ext cx="78548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ffffff"/>
                </a:solidFill>
                <a:latin typeface="Calibri"/>
              </a:rPr>
              <a:t>Para seleccionar las personas que harían parte de este proyecto la </a:t>
            </a:r>
            <a:r>
              <a:rPr b="0" i="1" lang="es-CO" sz="2800" spc="-1" strike="noStrike">
                <a:solidFill>
                  <a:srgbClr val="ffffff"/>
                </a:solidFill>
                <a:latin typeface="Calibri"/>
              </a:rPr>
              <a:t>CORPORACIÓN AGENCIA DE DESARROLLO ECONÓMICO LOCAL ¨ADEL ZAPATOSA¨, hizo una invitación por medio de la Emisora Comunitaria del Municipio de Chiriguaná a la comunidad de la Vereda SIMILOA. A su vez se seleccionaron personas que participaron de  las capacitaciones que ECOPETROL había realizado en veredas aledañas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3 Rectángulo"/>
          <p:cNvSpPr/>
          <p:nvPr/>
        </p:nvSpPr>
        <p:spPr>
          <a:xfrm>
            <a:off x="2340000" y="26028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3200" spc="-1" strike="noStrike">
                <a:solidFill>
                  <a:srgbClr val="ff0000"/>
                </a:solidFill>
                <a:latin typeface="Constantia"/>
              </a:rPr>
              <a:t>COMO LLEGARON A SER BENEFICIARIOS DEL PROYECTO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C:\Users\Public\Documents\ARNOLD\certificacion  arnol.jpg"/>
          <p:cNvPicPr/>
          <p:nvPr/>
        </p:nvPicPr>
        <p:blipFill>
          <a:blip r:embed="rId1"/>
          <a:stretch/>
        </p:blipFill>
        <p:spPr>
          <a:xfrm>
            <a:off x="-36360" y="1989000"/>
            <a:ext cx="4644720" cy="4869000"/>
          </a:xfrm>
          <a:prstGeom prst="rect">
            <a:avLst/>
          </a:prstGeom>
          <a:ln w="0">
            <a:noFill/>
          </a:ln>
        </p:spPr>
      </p:pic>
      <p:sp>
        <p:nvSpPr>
          <p:cNvPr id="203" name="1 CuadroTexto"/>
          <p:cNvSpPr/>
          <p:nvPr/>
        </p:nvSpPr>
        <p:spPr>
          <a:xfrm>
            <a:off x="1692360" y="260280"/>
            <a:ext cx="583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3200" spc="-1" strike="noStrike">
                <a:solidFill>
                  <a:srgbClr val="ff0000"/>
                </a:solidFill>
                <a:latin typeface="Constantia"/>
              </a:rPr>
              <a:t>COMO LLEGARON A SER BENEFICIARIOS DEL PROYECTO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4" name="Picture 3" descr=""/>
          <p:cNvPicPr/>
          <p:nvPr/>
        </p:nvPicPr>
        <p:blipFill>
          <a:blip r:embed="rId2"/>
          <a:stretch/>
        </p:blipFill>
        <p:spPr>
          <a:xfrm>
            <a:off x="4859280" y="1989000"/>
            <a:ext cx="4284720" cy="48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1 CuadroTexto"/>
          <p:cNvSpPr/>
          <p:nvPr/>
        </p:nvSpPr>
        <p:spPr>
          <a:xfrm>
            <a:off x="1692360" y="29196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3200" spc="-1" strike="noStrike">
                <a:solidFill>
                  <a:srgbClr val="ff0000"/>
                </a:solidFill>
                <a:latin typeface="Constantia"/>
              </a:rPr>
              <a:t>DESARROLLO DEL PROYECTO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6" name="Picture 3" descr="C:\Users\Public\Documents\ADEL 2011\SIMILOA\FOTOS SIMILOA\DSCI0360.JPG"/>
          <p:cNvPicPr/>
          <p:nvPr/>
        </p:nvPicPr>
        <p:blipFill>
          <a:blip r:embed="rId1"/>
          <a:stretch/>
        </p:blipFill>
        <p:spPr>
          <a:xfrm>
            <a:off x="4871880" y="1484280"/>
            <a:ext cx="4272120" cy="2735280"/>
          </a:xfrm>
          <a:prstGeom prst="rect">
            <a:avLst/>
          </a:prstGeom>
          <a:ln w="0">
            <a:noFill/>
          </a:ln>
        </p:spPr>
      </p:pic>
      <p:sp>
        <p:nvSpPr>
          <p:cNvPr id="207" name="3 CuadroTexto"/>
          <p:cNvSpPr/>
          <p:nvPr/>
        </p:nvSpPr>
        <p:spPr>
          <a:xfrm>
            <a:off x="324000" y="1547640"/>
            <a:ext cx="4284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UNA VEZ ESCOGIDOS LOS BENEFICIARIOS  INICIARON LAS CAPACITACIONES  EN EMPRENDIMIENTO, EMPRESARISMO, SENSIBILIZACIÓN DEL PROYECTO y PISCICULTURA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CONFORMÁNDOSE LA ASOCIACIÓN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2800" spc="-1" strike="noStrike">
                <a:solidFill>
                  <a:srgbClr val="000000"/>
                </a:solidFill>
                <a:latin typeface="Calibri"/>
              </a:rPr>
              <a:t>AGROPISCICOLA CHIRIGUANÁ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Picture 5" descr="C:\Users\Public\Documents\ADEL 2011\SIMILOA\FOTOS SIMILOA\DSCI0377.JPG"/>
          <p:cNvPicPr/>
          <p:nvPr/>
        </p:nvPicPr>
        <p:blipFill>
          <a:blip r:embed="rId2"/>
          <a:stretch/>
        </p:blipFill>
        <p:spPr>
          <a:xfrm>
            <a:off x="4871880" y="4219560"/>
            <a:ext cx="427212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3" descr="C:\Users\Public\Documents\ARNOLD\FOTOS Similoa ABRIL\100_274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0" name="1 Título" descr=""/>
          <p:cNvPicPr/>
          <p:nvPr/>
        </p:nvPicPr>
        <p:blipFill>
          <a:blip r:embed="rId2"/>
          <a:stretch/>
        </p:blipFill>
        <p:spPr>
          <a:xfrm>
            <a:off x="682560" y="476280"/>
            <a:ext cx="7778880" cy="7668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684360" y="1916280"/>
            <a:ext cx="7772400" cy="32414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ffff00"/>
                </a:solidFill>
                <a:latin typeface="Calibri"/>
              </a:rPr>
              <a:t>L</a:t>
            </a:r>
            <a:r>
              <a:rPr b="1" lang="es-CO" sz="2800" spc="-1" strike="noStrike">
                <a:solidFill>
                  <a:srgbClr val="ffff00"/>
                </a:solidFill>
                <a:latin typeface="Calibri"/>
              </a:rPr>
              <a:t>A METODOLOGÍA UTILIZADA PARA EL DESARROLLO DEL PROYECTO HA SIDO EL ACOMPAÑAMIENTO PERMANENTE A LOS BENEFICIARIOS, QUIENES SE CAPACITA EN EL SITIO, DE MANERA TEÓRICO-PRACTICA APROVECHANDO LA INFRAESTRUCTURA PARA QUE ADQUIERAN UN MEJOR CONOCIMIENTO DEL TEMA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C:\Users\Public\Documents\ARNOLD\FOTOS Similoa junio\100_394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3" name="1 Título" descr=""/>
          <p:cNvPicPr/>
          <p:nvPr/>
        </p:nvPicPr>
        <p:blipFill>
          <a:blip r:embed="rId2"/>
          <a:stretch/>
        </p:blipFill>
        <p:spPr>
          <a:xfrm>
            <a:off x="682560" y="255600"/>
            <a:ext cx="7778880" cy="89676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684360" y="1915920"/>
            <a:ext cx="7772400" cy="4321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ffff00"/>
                </a:solidFill>
                <a:latin typeface="Calibri"/>
              </a:rPr>
              <a:t>CAPACITACIONES RECIBIDAS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4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ffff00"/>
                </a:solidFill>
                <a:latin typeface="Calibri"/>
              </a:rPr>
              <a:t>PLANIFICACIÓN DISEÑO Y CONSTRUCCIÓN DE ESTANQUES PISCÍCOLAS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4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ffff00"/>
                </a:solidFill>
                <a:latin typeface="Calibri"/>
              </a:rPr>
              <a:t>SIEMBRA DE PECES EN ESTANQUES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4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ffff00"/>
                </a:solidFill>
                <a:latin typeface="Calibri"/>
              </a:rPr>
              <a:t>BIOMETRÍA Y ALIMENTACIÓN DE PECES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4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ffff00"/>
                </a:solidFill>
                <a:latin typeface="Calibri"/>
              </a:rPr>
              <a:t>SEXAJE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1 Título" descr=""/>
          <p:cNvPicPr/>
          <p:nvPr/>
        </p:nvPicPr>
        <p:blipFill>
          <a:blip r:embed="rId1"/>
          <a:stretch/>
        </p:blipFill>
        <p:spPr>
          <a:xfrm>
            <a:off x="682560" y="328680"/>
            <a:ext cx="7778880" cy="87768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684360" y="1557360"/>
            <a:ext cx="7772400" cy="496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ffffff"/>
                </a:solidFill>
                <a:latin typeface="Calibri"/>
              </a:rPr>
              <a:t>LOS BENEFICIARIOS ESTÁN EN LA CAPACIDAD DE REALIZAR ACTIVIDADES COMO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CO" sz="2400" spc="-1" strike="noStrike">
                <a:solidFill>
                  <a:srgbClr val="ffffff"/>
                </a:solidFill>
                <a:latin typeface="Calibri"/>
              </a:rPr>
              <a:t>PREPARACIÓN DE ESTANQUES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ffffff"/>
                </a:solidFill>
                <a:latin typeface="Calibri"/>
              </a:rPr>
              <a:t>SIEMBRA DE PECES EN ESTANQUES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ffffff"/>
                </a:solidFill>
                <a:latin typeface="Calibri"/>
              </a:rPr>
              <a:t>BIOMETRÍAS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ffffff"/>
                </a:solidFill>
                <a:latin typeface="Calibri"/>
              </a:rPr>
              <a:t>SEXAJE (DIFERENCIA ENTRE HEMBRA Y MACHO EN LA </a:t>
            </a:r>
            <a:r>
              <a:rPr b="0" i="1" lang="es-CO" sz="2400" spc="-1" strike="noStrike">
                <a:solidFill>
                  <a:srgbClr val="ffffff"/>
                </a:solidFill>
                <a:latin typeface="Calibri"/>
              </a:rPr>
              <a:t>TILAPIA ROJA</a:t>
            </a:r>
            <a:r>
              <a:rPr b="0" lang="es-CO" sz="2400" spc="-1" strike="noStrike">
                <a:solidFill>
                  <a:srgbClr val="ffffff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2 Rectángulo"/>
          <p:cNvSpPr/>
          <p:nvPr/>
        </p:nvSpPr>
        <p:spPr>
          <a:xfrm>
            <a:off x="108000" y="88920"/>
            <a:ext cx="417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ffffff"/>
                </a:solidFill>
                <a:latin typeface="Constantia"/>
              </a:rPr>
              <a:t>DETERMINACIÓN DEL SITIO E INICIO DE CONSTRUCCIÓN DE ESTANQUES Y PLANTA DE SACRIFICI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Picture 4" descr="C:\Users\Public\Documents\ADEL 2011\SIMILOA\FOTOS SIMILOA\P1000040.JPG"/>
          <p:cNvPicPr/>
          <p:nvPr/>
        </p:nvPicPr>
        <p:blipFill>
          <a:blip r:embed="rId1"/>
          <a:stretch/>
        </p:blipFill>
        <p:spPr>
          <a:xfrm>
            <a:off x="0" y="1584360"/>
            <a:ext cx="4284720" cy="52736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C:\Users\Public\Documents\ADEL 2011\SIMILOA\FOTOS SIMILOA\FOTOS SIMILOA 024.jpg"/>
          <p:cNvPicPr/>
          <p:nvPr/>
        </p:nvPicPr>
        <p:blipFill>
          <a:blip r:embed="rId2"/>
          <a:stretch/>
        </p:blipFill>
        <p:spPr>
          <a:xfrm>
            <a:off x="4284720" y="3429000"/>
            <a:ext cx="4859280" cy="34574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C:\Users\Public\Documents\ADEL 2011\SIMILOA\FOTOS SIMILOA\DSCI0343.JPG"/>
          <p:cNvPicPr/>
          <p:nvPr/>
        </p:nvPicPr>
        <p:blipFill>
          <a:blip r:embed="rId3"/>
          <a:stretch/>
        </p:blipFill>
        <p:spPr>
          <a:xfrm>
            <a:off x="4284720" y="-27000"/>
            <a:ext cx="48592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C:\Users\Public\Documents\ADEL 2011\SIMILOA\FOTOS SIMILOA\DSCI0343.JPG"/>
          <p:cNvPicPr/>
          <p:nvPr/>
        </p:nvPicPr>
        <p:blipFill>
          <a:blip r:embed="rId1"/>
          <a:stretch/>
        </p:blipFill>
        <p:spPr>
          <a:xfrm>
            <a:off x="15840" y="0"/>
            <a:ext cx="4987800" cy="3357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" descr="C:\Users\Public\Documents\ADEL 2011\SIMILOA\FOTOS SIMILOA\DSCI0285.JPG"/>
          <p:cNvPicPr/>
          <p:nvPr/>
        </p:nvPicPr>
        <p:blipFill>
          <a:blip r:embed="rId2"/>
          <a:stretch/>
        </p:blipFill>
        <p:spPr>
          <a:xfrm>
            <a:off x="4643280" y="-14400"/>
            <a:ext cx="4500720" cy="33721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C:\Users\Public\Documents\ARNOLD\FOTOS Similoa ABRIL\100_2842.JPG"/>
          <p:cNvPicPr/>
          <p:nvPr/>
        </p:nvPicPr>
        <p:blipFill>
          <a:blip r:embed="rId3"/>
          <a:stretch/>
        </p:blipFill>
        <p:spPr>
          <a:xfrm>
            <a:off x="0" y="3357720"/>
            <a:ext cx="4356000" cy="35002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C:\Users\Public\Documents\ARNOLD\FOTOS Similoa ABRIL\100_2844.JPG"/>
          <p:cNvPicPr/>
          <p:nvPr/>
        </p:nvPicPr>
        <p:blipFill>
          <a:blip r:embed="rId4"/>
          <a:stretch/>
        </p:blipFill>
        <p:spPr>
          <a:xfrm>
            <a:off x="4356000" y="3357720"/>
            <a:ext cx="4788000" cy="3500280"/>
          </a:xfrm>
          <a:prstGeom prst="rect">
            <a:avLst/>
          </a:prstGeom>
          <a:ln w="0">
            <a:noFill/>
          </a:ln>
        </p:spPr>
      </p:pic>
      <p:sp>
        <p:nvSpPr>
          <p:cNvPr id="225" name="5 CuadroTexto"/>
          <p:cNvSpPr/>
          <p:nvPr/>
        </p:nvSpPr>
        <p:spPr>
          <a:xfrm>
            <a:off x="1332000" y="2492280"/>
            <a:ext cx="662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000" spc="-1" strike="noStrike">
                <a:solidFill>
                  <a:srgbClr val="ff0000"/>
                </a:solidFill>
                <a:latin typeface="Constantia"/>
              </a:rPr>
              <a:t>CONSTRUCCIÓN DE ESTANQUES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5T14:18:12Z</dcterms:created>
  <dc:creator>USUARIO</dc:creator>
  <dc:description/>
  <dc:language>en-US</dc:language>
  <cp:lastModifiedBy>Paula Vanessa Páez Cardona</cp:lastModifiedBy>
  <dcterms:modified xsi:type="dcterms:W3CDTF">2012-09-20T21:48:06Z</dcterms:modified>
  <cp:revision>57</cp:revision>
  <dc:subject/>
  <dc:title>Presentación de PowerPoint</dc:title>
</cp:coreProperties>
</file>