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8A47-6E36-4FDE-97A3-0994FD16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5087-1EF0-4221-BBC1-57DCBB25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31D9-D31D-4745-A489-9E298280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41408-59D8-46AB-9058-451862E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12C9-109B-46FA-8814-7095432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BC445-E378-4786-8F81-B96C7AC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1013-D213-4499-AC81-DD7889B0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8E990-7C3D-42ED-9CE9-12F2BB6E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D614-851A-4DDF-BBC8-FA70C203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886B-27C8-47C0-9F51-CF8EDD32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B27F5-A9D7-4241-9508-CCBB0689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93096-7B12-4B43-9B0B-FBC6339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BFEC2-C438-4101-BF27-233EF357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B315-AE3F-4BDC-853C-04E3F1AF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E987F-7FCC-427F-8BB3-6722F98F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1AA1C-B360-4400-803B-0DC57F5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49450-2A65-47DD-8509-232EDDB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A85ED-075A-4962-89AE-6385C44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F6D4A-D102-4814-8A20-5B36B9DE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F81AF-7A5D-426C-B917-915BEF6A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7922-D9E7-4220-AA93-38145897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25646-301F-432C-A3A0-98592CEC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DF13B-2795-4C97-9355-E110C0D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C3419-5AF2-46D2-A0BA-9EB559C5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6B338-C277-49E0-AB39-54FB0BB5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0490B-F3C3-4A03-8FEE-9D2E5856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B7189-261C-44E9-9F75-EDC9916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CA174-51E0-4991-A416-E017D2E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AA0E1-2DC1-4255-BB3A-2D028E8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82803-F5C7-4C63-A274-59A1B08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192-9CBA-4387-8B8B-BCB4F2ED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7D0FC-D7AA-431E-9271-5616CE0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2F729-22F9-47B0-839E-FFD2570C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611D2-419A-4642-8968-306D815B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C56C-C985-4A99-BDCE-3B4D0660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AECF-7B88-4545-AD83-9525303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A401-8983-4D7D-94BE-47039E8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1B0B4-DF70-40B9-8A74-EA965B37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982D0-B8ED-42AF-AAF7-9C1974D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E820D-6EB9-44B7-A636-AF2D420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A3402-4F18-4BED-B8B1-F56D563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080-1691-4449-957D-67B3EF34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C0D5-2C3E-479C-97EE-4910AAD7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6ABFC-35C6-46C7-9D60-ECACFA2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96194-B741-4764-97AA-F6C0D51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F371-86C8-4BA1-A362-29EABDFC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DC38E-D5A1-4893-8543-1A50F97E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C64-CC33-4AA4-B633-2783819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D2C-7047-4A99-8D39-C80C7F80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AC3-85A0-423B-88A4-BCAD72A2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32D-740E-4DB9-BD74-CE2ACE6A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F3A-F620-4A4F-A3E6-59D7B3E9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3DB-38FD-4A0D-A5F5-170867D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CE9-4973-46E1-BD21-A59F2D1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5CD-C3EF-44ED-8571-DAD6DB9E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221-F870-4B49-9212-EF40EBA1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226-E76E-4138-A731-725FE92F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F549-CBA8-410D-80E8-FDC5B34B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CE82-10E2-4A94-AFB0-2DB715B4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5FD-4111-4A8D-84EE-4D56BBD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6FF-BDF7-4BB6-A751-A648D10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4EF1-A480-42A2-9067-B9DA417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1329-73BC-4BC2-926B-9362B0B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F69B-6DEA-48A9-9CA1-33DBCCD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226A-33E5-4241-A4D9-5135F90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E56E-F5A6-4174-862A-5F895AB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812E-42F7-4F7A-B46C-204C2BC1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C5E5-3726-48B8-8595-FEBC6157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0E40-F187-4796-BEE3-F6693F59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B7B6-BDBB-4EBE-92FA-A977BAA7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D18C-6245-4081-96DB-E0888C42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6368-220D-4F8F-916C-17BB5E0A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80F4-0D1C-43BF-A710-F112E318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F7CF-E6DE-4E18-A842-4042D039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7B6C-6478-4D17-AD52-D593BAAC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F535-6316-4EBE-AF52-4892620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B3F5-098B-46FC-9D3A-4BDAB52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4AF7-D671-42FC-957D-3228197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8A0D-F8A3-4F5B-98B7-B720C22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8043-88B1-452E-A22B-7AEC1832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9149-7687-4A5A-985A-C1AD1267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EE9D-A160-4EDF-BA50-B3ED04F6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D1A0-5181-4BF0-A9C9-16F874F9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1E0E-D22B-41FF-BCC4-B813859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E34F3-4FB1-4EC5-A8FC-EB60278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8930-F204-4FCE-962F-E0CBE9CE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B05D-094D-4446-B039-F32E97B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B2D3-9C15-4ED0-831F-32EEA064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9A321-94E7-4EB2-AD9B-77448AB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FC9F-81EE-4313-9BFD-4AFC2BA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D239-15B1-4FD6-9391-53DBF67C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8261-E53B-4C76-9323-0AC876BF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105B-5DCA-40A0-B04C-8BD4D5CB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70C3-781E-48DF-B82F-52312C33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0F57-ED86-483F-84AA-D4A00A1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E05D-FFCB-4824-B0CD-02E5E398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D287-2BBE-45E0-BC4C-892D9D97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8646-0925-4588-B02C-74112A0B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22BA-D2D0-4ABB-A452-3570C560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0E7C-FFCF-4C5C-9E9F-50F9861B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5225-DD8C-4BE8-ACF7-84E4876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05C4-3952-4F84-9F96-0F170D5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E869-8976-43C2-B9D4-D58C79B1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7A767-C270-4E12-9EBB-F46A6758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6C7D-5726-49A0-B6B6-BB50009E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123B-B1F7-4045-A765-10A46C1D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A437-973E-44A9-B745-429B2EBB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46D4A-91EE-4497-A249-AF1AEADE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6042-DC2D-4FAB-8237-9D476380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E824B-6E09-4963-AC0D-65F002C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1273-CB5E-4B7E-847D-3D45C8E5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883F7-B589-4642-85C0-4C1325AA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D7EE-2687-477C-987A-4ABF9FBD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634D0-54F7-4A1F-A371-6BD47DD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D668-2E5B-4908-94C2-095D4360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2CF0-00A4-4755-BEAC-0475CF96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2389-CD16-442B-874D-47FE99C5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F669-4314-47F7-986E-447A7EED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7160-84E2-4EE6-8BCA-7204636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F1BE-F4F0-491B-A192-1D3DE587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A8D90-F1CD-4083-9012-A2A0B1C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E9A7-4CE5-48E6-9335-4590A7D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3CF43-4851-4B07-BC88-6747F18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CFDE1-1419-4CC3-A5CA-FB2EA8F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4FED8-E876-4F80-A438-2234AFF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742B-75EE-43B4-BC85-D0ADB18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AE42-BA00-4F48-838B-FE5E8A0C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2647-A5E7-49BD-8C20-5BE5CE8A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4E5B-B030-4070-AEAF-3A631004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963CB-EEAD-4B28-81A0-EC78B0F7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58589-4147-4190-A3C8-EBBE883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1CAC1-9395-402E-A21F-FEF507B1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2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397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C689-9CC0-4E12-B0FB-B87B94C9AA8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441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35C-2618-4806-9AFB-7D2F7C8C95E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485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C75-D668-4882-9E2A-73FEEFC87539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43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41AA-4EED-4C10-8112-863EE50755B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87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4DB7-3092-4219-8DD7-9A7B72BDEB90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133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EDD-A1D3-49BE-B006-509F1CBCB7E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177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2232-EA84-47E7-B09B-7268030C2BA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221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8AB-9F3E-4D66-987F-6354B067BE1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265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08C-6DBE-4885-959F-7A66B3383D6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309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1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6F3E-0321-4E1F-8F79-9BF7A8A43C9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Imagen 2" descr="logoword"/>
          <p:cNvPicPr/>
          <p:nvPr/>
        </p:nvPicPr>
        <p:blipFill>
          <a:blip r:embed="rId2"/>
          <a:stretch/>
        </p:blipFill>
        <p:spPr>
          <a:xfrm>
            <a:off x="250920" y="5805360"/>
            <a:ext cx="1657080" cy="63180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8"/>
          <p:cNvGrpSpPr/>
          <p:nvPr/>
        </p:nvGrpSpPr>
        <p:grpSpPr>
          <a:xfrm>
            <a:off x="7451640" y="5950080"/>
            <a:ext cx="1544400" cy="815400"/>
            <a:chOff x="7451640" y="5950080"/>
            <a:chExt cx="1544400" cy="815400"/>
          </a:xfrm>
        </p:grpSpPr>
        <p:pic>
          <p:nvPicPr>
            <p:cNvPr id="353" name="Picture 9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7451640" y="5950080"/>
              <a:ext cx="152244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10"/>
            <p:cNvSpPr/>
            <p:nvPr/>
          </p:nvSpPr>
          <p:spPr>
            <a:xfrm>
              <a:off x="7974000" y="6462720"/>
              <a:ext cx="1022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Times New Roman"/>
                </a:rPr>
                <a:t>CENTRO DE INVESTIGACIONES PARA EL DESARROLLO - CI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7 Imagen" descr="Pata_Iguana.png"/>
          <p:cNvPicPr/>
          <p:nvPr/>
        </p:nvPicPr>
        <p:blipFill>
          <a:blip r:embed="rId4"/>
          <a:stretch/>
        </p:blipFill>
        <p:spPr>
          <a:xfrm>
            <a:off x="7812000" y="0"/>
            <a:ext cx="1330560" cy="28735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C67A-B7BA-4BB4-8578-65D08542219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6 CuadroTexto"/>
          <p:cNvSpPr/>
          <p:nvPr/>
        </p:nvSpPr>
        <p:spPr>
          <a:xfrm>
            <a:off x="684360" y="981000"/>
            <a:ext cx="76435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575d1"/>
                </a:solidFill>
                <a:latin typeface="Arial"/>
              </a:rPr>
              <a:t>1ER ENCUENTRO NACIONAL DE INTERCAMBIO DE EXPERIENCIAS PARA LA GENERACIÓN DE CAPACIDADES PRODU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36508"/>
                </a:solidFill>
                <a:latin typeface="Lucida Sans Unicode"/>
                <a:ea typeface="Calibri"/>
              </a:rPr>
              <a:t>ECOPETROL S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PTIEMBRE 7 D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45100"/>
                </a:solidFill>
                <a:latin typeface="Lucida Sans Unicode"/>
                <a:ea typeface="Calibri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45100"/>
                </a:solidFill>
                <a:latin typeface="Lucida Sans Unicode"/>
                <a:ea typeface="Calibri"/>
              </a:rPr>
              <a:t>CAPITAL SOCIAL Y DESARROLL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45100"/>
                </a:solidFill>
                <a:latin typeface="Lucida Sans Unicode"/>
                <a:ea typeface="Calibri"/>
              </a:rPr>
              <a:t>POR: EDGAR BEJA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바탕"/>
              </a:rPr>
              <a:t>UNIVERSIDAD NACIONAL DE COLOMBI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  <a:ea typeface="바탕"/>
              </a:rPr>
              <a:t>Facultad de Ciencias Económ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  <a:ea typeface="바탕"/>
              </a:rPr>
              <a:t>Centro de Investigaciones para el Desarrollo - 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9892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1 Título"/>
          <p:cNvSpPr/>
          <p:nvPr/>
        </p:nvSpPr>
        <p:spPr>
          <a:xfrm>
            <a:off x="1116000" y="907920"/>
            <a:ext cx="7124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1 Título"/>
          <p:cNvSpPr/>
          <p:nvPr/>
        </p:nvSpPr>
        <p:spPr>
          <a:xfrm>
            <a:off x="500040" y="64296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NEXOS INDIVIDUO-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5280" y="148392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5.  La conformidad-inconformidad incide en los beneficios y costos que el individuo pueden esperar de asoci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6. Pero hay otras cosas que influyen como la cultura de cooperación y la confianza del individuo, al igual que la presencia de comportamientos oportunistas, buscadores de renta, seguidores, ventana de umb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 Título"/>
          <p:cNvSpPr/>
          <p:nvPr/>
        </p:nvSpPr>
        <p:spPr>
          <a:xfrm>
            <a:off x="539640" y="33336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0000"/>
                </a:solidFill>
                <a:latin typeface="Calibri"/>
              </a:rPr>
              <a:t>LA SOSTENIBILIDAD DEL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2 Marcador de contenido"/>
          <p:cNvSpPr/>
          <p:nvPr/>
        </p:nvSpPr>
        <p:spPr>
          <a:xfrm>
            <a:off x="395280" y="1197000"/>
            <a:ext cx="7632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ves resultados de coordinación y cooperación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plementariedad-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uen equilib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vital que el grupo garantice un retorno de pertenece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ve el benefici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vital la reciprocidad de los individuos con el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importante que el grupo cuente con incentivos, sanciones, que induzcan a ser recípro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que el costo de ser excluido supere el valor de ser recípro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tivamente la homogeneidad-heterogeneidad de sus miembros juega un rol clave.  Todo depende de la fortaleza de las identidad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920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CAPITAL SOCIAL Y DESARROLLO R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360" y="1197000"/>
            <a:ext cx="7786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¿Por qué el 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Todo el mundo prescribe lo conveniente de pertenecer a las redes en el caso de los individuos y de organizarse en el caso de las com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¿Cómo trata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n una perspectiva académica y empí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as separaciones son equivo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3.   Los Proyectos Ecopetrol y otros lo tienen como una precon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1 Título"/>
          <p:cNvSpPr/>
          <p:nvPr/>
        </p:nvSpPr>
        <p:spPr>
          <a:xfrm>
            <a:off x="468360" y="333360"/>
            <a:ext cx="748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Calibri"/>
                <a:ea typeface="Calibri"/>
              </a:rPr>
              <a:t>CAPITAL SOCIAL Y DESARROLLO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39640" y="1268280"/>
            <a:ext cx="771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proyecto coadyuva al desarrollo rural y un insumo básico del mismo es el capital soc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spcBef>
                <a:spcPts val="575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esarrollo rural va más allá de lo productivo (económico) e involucra otras dimensiones desarrollo humano, libertades, capacidades, oportunidades, vulnerabil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aportes y efectos multiplicadores del proyecto no son sólo de índole económica: por ejemplo, el proyecto requiere capital social y acumula capital soci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1 Título"/>
          <p:cNvSpPr/>
          <p:nvPr/>
        </p:nvSpPr>
        <p:spPr>
          <a:xfrm>
            <a:off x="468360" y="26028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  <a:ea typeface="Calibri"/>
              </a:rPr>
              <a:t>NUEVAS FUENTES DE CRECIMIENTO Y DESARROLLO</a:t>
            </a:r>
            <a:r>
              <a:rPr b="1" lang="es-CO" sz="1800" spc="-1" strike="noStrike">
                <a:solidFill>
                  <a:srgbClr val="ff0000"/>
                </a:solidFill>
                <a:latin typeface="Lucida Sans Unicode"/>
                <a:ea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000" y="1268280"/>
            <a:ext cx="77151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95120" indent="-195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바탕"/>
              </a:rPr>
              <a:t>1. El Crecimiento-Desarrollo no son proces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바탕"/>
              </a:rPr>
              <a:t>2.El Crecimiento-Desarrollo se logra por acumulación de factores y por productividad total. Ambas fuentes interactú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바탕"/>
              </a:rPr>
              <a:t>3. En las primeras etapas del crecimiento-desarrollo quizás lo que más pesa es la acumulación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바탕"/>
              </a:rPr>
              <a:t>4. Hay nuevos factores acumulables diferentes a K y H, ellos son capital social, capital cul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바탕"/>
              </a:rPr>
              <a:t>5. Si se acumulan, significa que se deben construir por la inversión, que se deprecian, que cambia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4 Grupo"/>
          <p:cNvGrpSpPr/>
          <p:nvPr/>
        </p:nvGrpSpPr>
        <p:grpSpPr>
          <a:xfrm>
            <a:off x="4074840" y="5732640"/>
            <a:ext cx="1151640" cy="959040"/>
            <a:chOff x="4074840" y="5732640"/>
            <a:chExt cx="1151640" cy="959040"/>
          </a:xfrm>
        </p:grpSpPr>
        <p:pic>
          <p:nvPicPr>
            <p:cNvPr id="536" name="Picture 7" descr=""/>
            <p:cNvPicPr/>
            <p:nvPr/>
          </p:nvPicPr>
          <p:blipFill>
            <a:blip r:embed="rId1"/>
            <a:stretch/>
          </p:blipFill>
          <p:spPr>
            <a:xfrm>
              <a:off x="4285080" y="5732640"/>
              <a:ext cx="670320" cy="73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6 CuadroTexto"/>
            <p:cNvSpPr/>
            <p:nvPr/>
          </p:nvSpPr>
          <p:spPr>
            <a:xfrm>
              <a:off x="4074840" y="63234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RPORACIÓ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ED PAÍS RUR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1 Título"/>
          <p:cNvSpPr/>
          <p:nvPr/>
        </p:nvSpPr>
        <p:spPr>
          <a:xfrm>
            <a:off x="428760" y="357120"/>
            <a:ext cx="74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  <a:ea typeface="Calibri"/>
              </a:rPr>
              <a:t>¿QUÉ ES EL CAPITAL SOCIAL</a:t>
            </a:r>
            <a:r>
              <a:rPr b="1" lang="es-CO" sz="3200" spc="-1" strike="noStrike">
                <a:solidFill>
                  <a:srgbClr val="ff0000"/>
                </a:solidFill>
                <a:latin typeface="Arial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95280" y="105264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ara empezar: El Capital social (CS) es del individuo y de la socie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Aft>
                <a:spcPts val="1199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S en el individuo son sus redes de contactos y relacion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Aft>
                <a:spcPts val="1199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S en la sociedad: son características de la organización social como redes, normas y asociaciones que facilitan coordinación y cooperación para mutuo benefic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S en la sociedad: son las organizaciones y el grado de pertenencia a las mis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4.El CS individual o colectivo se genera, acumula y produce retor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4 Grupo"/>
          <p:cNvGrpSpPr/>
          <p:nvPr/>
        </p:nvGrpSpPr>
        <p:grpSpPr>
          <a:xfrm>
            <a:off x="4074840" y="5732640"/>
            <a:ext cx="1151640" cy="959040"/>
            <a:chOff x="4074840" y="5732640"/>
            <a:chExt cx="1151640" cy="959040"/>
          </a:xfrm>
        </p:grpSpPr>
        <p:pic>
          <p:nvPicPr>
            <p:cNvPr id="541" name="Picture 7" descr=""/>
            <p:cNvPicPr/>
            <p:nvPr/>
          </p:nvPicPr>
          <p:blipFill>
            <a:blip r:embed="rId1"/>
            <a:stretch/>
          </p:blipFill>
          <p:spPr>
            <a:xfrm>
              <a:off x="4285080" y="5732640"/>
              <a:ext cx="670320" cy="73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6 CuadroTexto"/>
            <p:cNvSpPr/>
            <p:nvPr/>
          </p:nvSpPr>
          <p:spPr>
            <a:xfrm>
              <a:off x="4074840" y="63234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RPORACIÓ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ED PAÍS RUR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</a:rPr>
              <a:t>¿CÓMO ES ESO QUE EL CS SE ACUMULA Y DESACU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95280" y="1268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En el Individuo: cada persona disfruta de cuatro dotaciones: riqueza heredada, inmutables características sociales, tiempo y capital social heredado. -</a:t>
            </a:r>
            <a:r>
              <a:rPr b="0" lang="es-CO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 ese CS inicial lo puede acrecentar vinculándose a grupos y expandiendo redes de contact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Las Comunidades tienen una historia, una cultura, unas expectativas y aspiraciones, y unas experiencias que inciden en su CS y en la evolución del mis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Lucha por sobreviv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Fragmentación étn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1 Título"/>
          <p:cNvSpPr/>
          <p:nvPr/>
        </p:nvSpPr>
        <p:spPr>
          <a:xfrm>
            <a:off x="428760" y="428760"/>
            <a:ext cx="74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</a:rPr>
              <a:t>¿ES EL CAPITAL SOCIAL SIEMPRE BUE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28400" y="1142640"/>
            <a:ext cx="738324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420480" indent="-42048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No es intrínsecamente ni bueno ni mal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42048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Tiene cosas buenas como: participación y control político, cooperación y construcción colectiva, transmisión de información y conocimiento, distribución y participación del riesgo. Idem para el individu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42048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El capital social es clave enfrentando ausencia de mercados y fallas de mercad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42048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Pero pueden haber organizaciones para el crim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42048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El CS puede profundizar la desigualdad económica y la polariz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420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1 Título"/>
          <p:cNvSpPr/>
          <p:nvPr/>
        </p:nvSpPr>
        <p:spPr>
          <a:xfrm>
            <a:off x="539640" y="33336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EL CAPITAL SOCIAL TIENE VALOR INTRINSECO Y VALO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95280" y="1413000"/>
            <a:ext cx="7848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Arial"/>
              </a:rPr>
              <a:t>Las relaciones  sociales valen por si mism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Arial"/>
              </a:rPr>
              <a:t>Las relaciones  sociales tienen un valor económico (sobre todo donde fallan mercados y la información es valiosa).  Tiene un costo construirlas pero hay un reto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Arial"/>
              </a:rPr>
              <a:t>Los individuos obtienen beneficios materiales de hacer parte de los grupos pero los grupos tienen una capacidad máxima de proveer beneficios a los individuos. Los recursos y la composición de los grupos inciden en esa capacid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Arial"/>
              </a:rPr>
              <a:t>En una relación dinámica, los individuos se benefician de los grupos pero los grupos esperan la reciprocidad de los individuos--</a:t>
            </a:r>
            <a:r>
              <a:rPr b="0" lang="es-CO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100" spc="-1" strike="noStrike">
                <a:solidFill>
                  <a:srgbClr val="000000"/>
                </a:solidFill>
                <a:latin typeface="Arial"/>
              </a:rPr>
              <a:t>Clave en la sostenibilidad del grupo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1 Título"/>
          <p:cNvSpPr/>
          <p:nvPr/>
        </p:nvSpPr>
        <p:spPr>
          <a:xfrm>
            <a:off x="500040" y="318960"/>
            <a:ext cx="748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NEXOS INDIVIDUO-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2 Marcador de contenido"/>
          <p:cNvSpPr/>
          <p:nvPr/>
        </p:nvSpPr>
        <p:spPr>
          <a:xfrm>
            <a:off x="468360" y="1052640"/>
            <a:ext cx="77040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El individuo y los grupos tienen características económicas y no  económic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Las características de los individuos y de los grupos pueden estar lejos o cerca entre sí-</a:t>
            </a:r>
            <a:r>
              <a:rPr b="0" lang="es-CO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Eso incide en la conformidad o incomformidad con el grupo</a:t>
            </a:r>
            <a:r>
              <a:rPr b="0" lang="es-CO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 en los beneficios que un individuo puede extraer de un grup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Pero los individuos y los grupos tienen su identidad y la intensidad (fortaleza) de las mismas pueden acercarlos u alejarl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Arial"/>
              </a:rPr>
              <a:t>Distancia y fortaleza identidad: conformid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8:14:51Z</dcterms:created>
  <dc:creator>Carlos Bernal</dc:creator>
  <dc:description/>
  <dc:language>en-US</dc:language>
  <cp:lastModifiedBy>Martha Cecilia Pabon Guzman (Geoingeniería)</cp:lastModifiedBy>
  <dcterms:modified xsi:type="dcterms:W3CDTF">2012-09-07T21:25:08Z</dcterms:modified>
  <cp:revision>732</cp:revision>
  <dc:subject/>
  <dc:title>Diapositiva 1</dc:title>
</cp:coreProperties>
</file>